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CFBE5-DE24-4650-82AE-0313767ABF01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1E692-D264-49EC-987A-108A71E58213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2290D-580C-4B69-AEE5-9972B350E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DAA95-C553-43FE-A86E-798C53902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41A58-7E35-44E1-BD8E-06C575DD1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14D1B-C8B4-483A-B38B-05A33D8DC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A2768-9017-4AFD-A497-173D88443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38EE6-D465-4757-8C8F-8EDE7304D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32386-1F9D-46F3-82CF-6BFFE2EA4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99434-3B28-4A9E-851D-8CE099F90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22C87-A32B-419E-9ECF-6042ABF60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E3C96-E695-4613-B3FC-67426B925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B38DF-FF64-4B98-BC12-0AD249A8D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CACF9-0E93-433A-A88D-334082132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FCE5C-762E-458C-AB3B-384045267704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691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영남대학교의료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80520" y="4952880"/>
            <a:ext cx="8533080" cy="134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해용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승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3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기간 </a:t>
            </a:r>
            <a:r>
              <a:rPr b="0" lang="en-US" sz="25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9.01.28 ~ 2.20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위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2" name="Picture 5" descr="map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교 통 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반 버스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순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순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-1, 410, 410-1, 405, 452, 503, 604, 805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달서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, 651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하철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선 영대병원역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대구광역시 남구 대명동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17-1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연락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53-623-8001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남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장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넥타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검정색 종류의 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블라우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장 단정히 할 것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!!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토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격주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권구입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,0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-332640">
              <a:lnSpc>
                <a:spcPct val="6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재활치료 분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층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신경계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FES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7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층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동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onference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목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&amp; topic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있을수도 없을수도 있으며 일정에 따라 달라진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보통 짧으면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5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길면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정도 소요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시로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report 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일지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part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별로 틀리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)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est 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마지막주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안할 수 도 있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544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신경계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장님 외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6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위주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PNF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흡운동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bobath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-284400">
              <a:lnSpc>
                <a:spcPct val="2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modality, manua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외래환자 우선으로함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4572000" y="1447920"/>
            <a:ext cx="3476520" cy="41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2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FES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FES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동치료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스트레칭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ROM, FES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부분의 전문적인 치료를 볼 수 있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직접 환자를  다룰 수 있는 기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종합병원급의 시스템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및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onference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참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설낙후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 시간 때 쉴 공간이 없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에는 밥이 맛없었다고 하나 그냥 그럭저럭 먹을만 함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 말고는 계속 서 있어야함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분야로 나뉘어 있어서 모든 분야를 경험 할 수 있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영대병원으로 오세용 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^</a:t>
            </a: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ㅁ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^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Staff</cp:lastModifiedBy>
  <dcterms:modified xsi:type="dcterms:W3CDTF">2009-04-11T08:29:44Z</dcterms:modified>
  <cp:revision>11</cp:revision>
  <dc:subject/>
  <dc:title>영남대학교의료원</dc:title>
</cp:coreProperties>
</file>